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94594"/>
        <c:axId val="11704099"/>
      </c:barChart>
      <c:catAx>
        <c:axId val="64394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04099"/>
        <c:crosses val="autoZero"/>
        <c:auto val="1"/>
        <c:lblAlgn val="ctr"/>
        <c:lblOffset val="100"/>
        <c:noMultiLvlLbl val="0"/>
      </c:catAx>
      <c:valAx>
        <c:axId val="11704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94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AADA-5654-43B2-816A-0FC0F0E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A2D-C903-4E99-9FBE-E33C66C0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ABF-D106-49B8-A30D-4EAE787D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178-1928-4E63-903D-532FD637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C279-CFF0-4465-8D9B-EAA9333F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E1E-8314-40AA-95DB-17BA2299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51E-7212-45BA-92A3-AB78F8D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544-15E4-4C66-8DEA-5892F5B5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472-0BC0-402C-B5EB-B0532ECC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4DC-C66F-4863-BB88-B8B4A29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241D-5FF0-4592-84A9-F8634C26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0E3-F73F-44E1-98E8-CD153F1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9C271-2B5C-4AB1-94AD-2A322AF20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