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769337"/>
        <c:axId val="22305130"/>
      </c:barChart>
      <c:catAx>
        <c:axId val="427693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305130"/>
        <c:crosses val="autoZero"/>
        <c:auto val="1"/>
        <c:lblAlgn val="ctr"/>
        <c:lblOffset val="100"/>
        <c:noMultiLvlLbl val="0"/>
      </c:catAx>
      <c:valAx>
        <c:axId val="223051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7693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2FF3-2A65-40DF-8B4C-BF8DC1689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3CFF-AF79-45A7-B170-66491E49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AE5F-6650-42F4-B448-65E27517F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27CC-7BEE-497A-B528-F69444C02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9E1F-33A8-42B2-889A-2C8021E9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DACD-D85C-4855-8604-F4A84EA9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B55E-617D-4931-AAFD-75F9D5B6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30C1-FF92-425D-81A6-A50A7DEB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D689-24E4-46E6-BFBB-389EA5AD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9BDB-56D3-402E-8072-981A8DF8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AFC7-469F-4081-9AC6-9ABF538E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37B3-7E77-4494-B7C7-527855E7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D9483D-102E-4F7A-B9CB-DDA2C00532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